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A2D-B1E6-44E1-AFBD-6F49E4F9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8AC-5D17-4272-A5B8-40A8858B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3D2-4950-4626-88DB-10E1EADE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85B-2C01-43BB-861E-33DFB3CD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C381-73C5-4BDE-B3C6-9CDEE2D5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B988-B754-4B40-A92C-6F140DE0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936D-7A07-43BC-8C00-E7E1ED13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D61C-A96B-49B3-B501-3DFDAD7C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1CE7-AAA2-4199-91E5-E7070101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9304-552F-48AD-BD56-1C172381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A8FC-F790-41E7-A6B3-DFBD6712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FD09-8645-4263-B6A0-C73FA42C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2CCE-8F31-47A4-A7E4-2AF7EB0A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46E0-8B66-4CD5-BF1A-70B0ED91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DF9A-3C06-4756-9A3E-2B63C79E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299B-A75C-4A28-A8CB-1993580E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9CB8-27F2-4F41-803E-92BDC4C5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87B6-9AEA-4C7B-852D-A1117C73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E69-5EA2-4BE1-818C-B2E6A24E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1DD-0A60-43F5-906A-18616BFB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078-FAFC-4993-BE8F-808B25BC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730-BC0C-4D6E-B228-D3236F51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03F-28DA-4E3F-AD6C-5A931B50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D3B4-A328-4C95-A433-19E5BB18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81120"/>
            <a:ext cx="9142560" cy="5275440"/>
            <a:chOff x="0" y="1581120"/>
            <a:chExt cx="9142560" cy="5275440"/>
          </a:xfrm>
        </p:grpSpPr>
        <p:pic>
          <p:nvPicPr>
            <p:cNvPr id="1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Freeform 4"/>
            <p:cNvSpPr/>
            <p:nvPr/>
          </p:nvSpPr>
          <p:spPr>
            <a:xfrm>
              <a:off x="0" y="55911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1581120"/>
              <a:ext cx="439092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56F1-2F46-4682-8755-263538F72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2259000"/>
            <a:ext cx="9142560" cy="4597560"/>
            <a:chOff x="0" y="2259000"/>
            <a:chExt cx="9142560" cy="4597560"/>
          </a:xfrm>
        </p:grpSpPr>
        <p:pic>
          <p:nvPicPr>
            <p:cNvPr id="46" name="Picture 3" descr=""/>
            <p:cNvPicPr/>
            <p:nvPr/>
          </p:nvPicPr>
          <p:blipFill>
            <a:blip r:embed="rId3"/>
            <a:srcRect l="0" t="0" r="27345" b="11443"/>
            <a:stretch/>
          </p:blipFill>
          <p:spPr>
            <a:xfrm>
              <a:off x="6311880" y="2259000"/>
              <a:ext cx="2830680" cy="45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Freeform 4"/>
            <p:cNvSpPr/>
            <p:nvPr/>
          </p:nvSpPr>
          <p:spPr>
            <a:xfrm>
              <a:off x="0" y="5362560"/>
              <a:ext cx="3983040" cy="311040"/>
            </a:xfrm>
            <a:custGeom>
              <a:avLst/>
              <a:gdLst>
                <a:gd name="textAreaLeft" fmla="*/ 0 w 3983040"/>
                <a:gd name="textAreaRight" fmla="*/ 3983400 w 398304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2509" h="196">
                  <a:moveTo>
                    <a:pt x="5" y="93"/>
                  </a:moveTo>
                  <a:lnTo>
                    <a:pt x="39" y="61"/>
                  </a:lnTo>
                  <a:lnTo>
                    <a:pt x="71" y="43"/>
                  </a:lnTo>
                  <a:lnTo>
                    <a:pt x="104" y="28"/>
                  </a:lnTo>
                  <a:lnTo>
                    <a:pt x="144" y="18"/>
                  </a:lnTo>
                  <a:lnTo>
                    <a:pt x="182" y="13"/>
                  </a:lnTo>
                  <a:lnTo>
                    <a:pt x="227" y="10"/>
                  </a:lnTo>
                  <a:lnTo>
                    <a:pt x="281" y="13"/>
                  </a:lnTo>
                  <a:lnTo>
                    <a:pt x="321" y="22"/>
                  </a:lnTo>
                  <a:lnTo>
                    <a:pt x="357" y="34"/>
                  </a:lnTo>
                  <a:lnTo>
                    <a:pt x="408" y="60"/>
                  </a:lnTo>
                  <a:lnTo>
                    <a:pt x="440" y="85"/>
                  </a:lnTo>
                  <a:lnTo>
                    <a:pt x="474" y="111"/>
                  </a:lnTo>
                  <a:lnTo>
                    <a:pt x="509" y="129"/>
                  </a:lnTo>
                  <a:lnTo>
                    <a:pt x="561" y="142"/>
                  </a:lnTo>
                  <a:lnTo>
                    <a:pt x="626" y="148"/>
                  </a:lnTo>
                  <a:lnTo>
                    <a:pt x="677" y="145"/>
                  </a:lnTo>
                  <a:lnTo>
                    <a:pt x="728" y="135"/>
                  </a:lnTo>
                  <a:lnTo>
                    <a:pt x="770" y="117"/>
                  </a:lnTo>
                  <a:lnTo>
                    <a:pt x="806" y="93"/>
                  </a:lnTo>
                  <a:lnTo>
                    <a:pt x="860" y="57"/>
                  </a:lnTo>
                  <a:lnTo>
                    <a:pt x="899" y="36"/>
                  </a:lnTo>
                  <a:lnTo>
                    <a:pt x="950" y="13"/>
                  </a:lnTo>
                  <a:lnTo>
                    <a:pt x="998" y="4"/>
                  </a:lnTo>
                  <a:lnTo>
                    <a:pt x="1043" y="3"/>
                  </a:lnTo>
                  <a:lnTo>
                    <a:pt x="1119" y="6"/>
                  </a:lnTo>
                  <a:lnTo>
                    <a:pt x="1181" y="21"/>
                  </a:lnTo>
                  <a:lnTo>
                    <a:pt x="1214" y="39"/>
                  </a:lnTo>
                  <a:lnTo>
                    <a:pt x="1260" y="66"/>
                  </a:lnTo>
                  <a:lnTo>
                    <a:pt x="1308" y="102"/>
                  </a:lnTo>
                  <a:lnTo>
                    <a:pt x="1349" y="121"/>
                  </a:lnTo>
                  <a:lnTo>
                    <a:pt x="1403" y="133"/>
                  </a:lnTo>
                  <a:lnTo>
                    <a:pt x="1458" y="138"/>
                  </a:lnTo>
                  <a:lnTo>
                    <a:pt x="1514" y="133"/>
                  </a:lnTo>
                  <a:lnTo>
                    <a:pt x="1557" y="123"/>
                  </a:lnTo>
                  <a:lnTo>
                    <a:pt x="1593" y="111"/>
                  </a:lnTo>
                  <a:lnTo>
                    <a:pt x="1635" y="84"/>
                  </a:lnTo>
                  <a:lnTo>
                    <a:pt x="1668" y="61"/>
                  </a:lnTo>
                  <a:lnTo>
                    <a:pt x="1704" y="39"/>
                  </a:lnTo>
                  <a:lnTo>
                    <a:pt x="1754" y="18"/>
                  </a:lnTo>
                  <a:lnTo>
                    <a:pt x="1794" y="6"/>
                  </a:lnTo>
                  <a:lnTo>
                    <a:pt x="1844" y="1"/>
                  </a:lnTo>
                  <a:lnTo>
                    <a:pt x="1907" y="0"/>
                  </a:lnTo>
                  <a:lnTo>
                    <a:pt x="1958" y="4"/>
                  </a:lnTo>
                  <a:lnTo>
                    <a:pt x="2003" y="18"/>
                  </a:lnTo>
                  <a:lnTo>
                    <a:pt x="2039" y="33"/>
                  </a:lnTo>
                  <a:lnTo>
                    <a:pt x="2073" y="54"/>
                  </a:lnTo>
                  <a:lnTo>
                    <a:pt x="2118" y="88"/>
                  </a:lnTo>
                  <a:lnTo>
                    <a:pt x="2153" y="109"/>
                  </a:lnTo>
                  <a:lnTo>
                    <a:pt x="2192" y="124"/>
                  </a:lnTo>
                  <a:lnTo>
                    <a:pt x="2244" y="135"/>
                  </a:lnTo>
                  <a:lnTo>
                    <a:pt x="2303" y="138"/>
                  </a:lnTo>
                  <a:lnTo>
                    <a:pt x="2355" y="129"/>
                  </a:lnTo>
                  <a:lnTo>
                    <a:pt x="2412" y="106"/>
                  </a:lnTo>
                  <a:lnTo>
                    <a:pt x="2439" y="87"/>
                  </a:lnTo>
                  <a:lnTo>
                    <a:pt x="2463" y="66"/>
                  </a:lnTo>
                  <a:lnTo>
                    <a:pt x="2475" y="61"/>
                  </a:lnTo>
                  <a:lnTo>
                    <a:pt x="2489" y="61"/>
                  </a:lnTo>
                  <a:lnTo>
                    <a:pt x="2499" y="66"/>
                  </a:lnTo>
                  <a:lnTo>
                    <a:pt x="2507" y="76"/>
                  </a:lnTo>
                  <a:lnTo>
                    <a:pt x="2508" y="85"/>
                  </a:lnTo>
                  <a:lnTo>
                    <a:pt x="2508" y="96"/>
                  </a:lnTo>
                  <a:lnTo>
                    <a:pt x="2504" y="106"/>
                  </a:lnTo>
                  <a:lnTo>
                    <a:pt x="2490" y="118"/>
                  </a:lnTo>
                  <a:lnTo>
                    <a:pt x="2463" y="139"/>
                  </a:lnTo>
                  <a:lnTo>
                    <a:pt x="2429" y="160"/>
                  </a:lnTo>
                  <a:lnTo>
                    <a:pt x="2399" y="172"/>
                  </a:lnTo>
                  <a:lnTo>
                    <a:pt x="2352" y="183"/>
                  </a:lnTo>
                  <a:lnTo>
                    <a:pt x="2298" y="186"/>
                  </a:lnTo>
                  <a:lnTo>
                    <a:pt x="2238" y="184"/>
                  </a:lnTo>
                  <a:lnTo>
                    <a:pt x="2192" y="180"/>
                  </a:lnTo>
                  <a:lnTo>
                    <a:pt x="2156" y="172"/>
                  </a:lnTo>
                  <a:lnTo>
                    <a:pt x="2114" y="156"/>
                  </a:lnTo>
                  <a:lnTo>
                    <a:pt x="2076" y="133"/>
                  </a:lnTo>
                  <a:lnTo>
                    <a:pt x="2049" y="112"/>
                  </a:lnTo>
                  <a:lnTo>
                    <a:pt x="2018" y="87"/>
                  </a:lnTo>
                  <a:lnTo>
                    <a:pt x="1977" y="67"/>
                  </a:lnTo>
                  <a:lnTo>
                    <a:pt x="1934" y="55"/>
                  </a:lnTo>
                  <a:lnTo>
                    <a:pt x="1886" y="49"/>
                  </a:lnTo>
                  <a:lnTo>
                    <a:pt x="1836" y="49"/>
                  </a:lnTo>
                  <a:lnTo>
                    <a:pt x="1776" y="64"/>
                  </a:lnTo>
                  <a:lnTo>
                    <a:pt x="1743" y="79"/>
                  </a:lnTo>
                  <a:lnTo>
                    <a:pt x="1707" y="99"/>
                  </a:lnTo>
                  <a:lnTo>
                    <a:pt x="1677" y="118"/>
                  </a:lnTo>
                  <a:lnTo>
                    <a:pt x="1626" y="147"/>
                  </a:lnTo>
                  <a:lnTo>
                    <a:pt x="1586" y="165"/>
                  </a:lnTo>
                  <a:lnTo>
                    <a:pt x="1535" y="180"/>
                  </a:lnTo>
                  <a:lnTo>
                    <a:pt x="1475" y="186"/>
                  </a:lnTo>
                  <a:lnTo>
                    <a:pt x="1437" y="186"/>
                  </a:lnTo>
                  <a:lnTo>
                    <a:pt x="1377" y="180"/>
                  </a:lnTo>
                  <a:lnTo>
                    <a:pt x="1322" y="165"/>
                  </a:lnTo>
                  <a:lnTo>
                    <a:pt x="1269" y="136"/>
                  </a:lnTo>
                  <a:lnTo>
                    <a:pt x="1230" y="109"/>
                  </a:lnTo>
                  <a:lnTo>
                    <a:pt x="1197" y="84"/>
                  </a:lnTo>
                  <a:lnTo>
                    <a:pt x="1163" y="67"/>
                  </a:lnTo>
                  <a:lnTo>
                    <a:pt x="1128" y="55"/>
                  </a:lnTo>
                  <a:lnTo>
                    <a:pt x="1071" y="48"/>
                  </a:lnTo>
                  <a:lnTo>
                    <a:pt x="1020" y="49"/>
                  </a:lnTo>
                  <a:lnTo>
                    <a:pt x="974" y="57"/>
                  </a:lnTo>
                  <a:lnTo>
                    <a:pt x="914" y="78"/>
                  </a:lnTo>
                  <a:lnTo>
                    <a:pt x="879" y="103"/>
                  </a:lnTo>
                  <a:lnTo>
                    <a:pt x="831" y="135"/>
                  </a:lnTo>
                  <a:lnTo>
                    <a:pt x="777" y="166"/>
                  </a:lnTo>
                  <a:lnTo>
                    <a:pt x="713" y="187"/>
                  </a:lnTo>
                  <a:lnTo>
                    <a:pt x="659" y="193"/>
                  </a:lnTo>
                  <a:lnTo>
                    <a:pt x="600" y="195"/>
                  </a:lnTo>
                  <a:lnTo>
                    <a:pt x="543" y="189"/>
                  </a:lnTo>
                  <a:lnTo>
                    <a:pt x="494" y="175"/>
                  </a:lnTo>
                  <a:lnTo>
                    <a:pt x="450" y="154"/>
                  </a:lnTo>
                  <a:lnTo>
                    <a:pt x="408" y="123"/>
                  </a:lnTo>
                  <a:lnTo>
                    <a:pt x="377" y="99"/>
                  </a:lnTo>
                  <a:lnTo>
                    <a:pt x="338" y="79"/>
                  </a:lnTo>
                  <a:lnTo>
                    <a:pt x="291" y="64"/>
                  </a:lnTo>
                  <a:lnTo>
                    <a:pt x="251" y="60"/>
                  </a:lnTo>
                  <a:lnTo>
                    <a:pt x="191" y="58"/>
                  </a:lnTo>
                  <a:lnTo>
                    <a:pt x="144" y="67"/>
                  </a:lnTo>
                  <a:lnTo>
                    <a:pt x="96" y="82"/>
                  </a:lnTo>
                  <a:lnTo>
                    <a:pt x="56" y="108"/>
                  </a:lnTo>
                  <a:lnTo>
                    <a:pt x="0" y="157"/>
                  </a:lnTo>
                  <a:lnTo>
                    <a:pt x="5" y="93"/>
                  </a:lnTo>
                </a:path>
              </a:pathLst>
            </a:custGeom>
            <a:solidFill>
              <a:srgbClr val="c3b5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3486240"/>
              <a:ext cx="4390920" cy="34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4688-210E-4762-AC26-3D44147E7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Graphing Lines Using Inter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Goa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ell MT"/>
              </a:rPr>
              <a:t>Find the intercepts and use them to graph the eq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, put a 0 i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34480" y="3505320"/>
            <a:ext cx="22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*0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812240" y="398160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904760" y="5181480"/>
            <a:ext cx="10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1981080" y="4572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904400" y="457200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  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578040" y="3505320"/>
            <a:ext cx="344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 is 2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ine crosses th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 at point (0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1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ose appropriate sc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learned in the previous example that the x-intercept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y-intercept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>
            <a:off x="1905120" y="594360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648320" y="3276720"/>
            <a:ext cx="0" cy="3124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41911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4114800" y="3048120"/>
            <a:ext cx="76212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785840" y="385128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0,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3124800" y="533412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-10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681840" y="3962520"/>
            <a:ext cx="280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imes we must sca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r coordinate plane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our  answers f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a coordinate plane that includes the inter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ot the intercepts and draw a line through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intercep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 is the point where a line crosse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 is the point where a line crosses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’s take a look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>
            <a:off x="4267080" y="2590920"/>
            <a:ext cx="1800" cy="3047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1828800" y="4267080"/>
            <a:ext cx="487692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2668680" y="2741760"/>
            <a:ext cx="5713200" cy="2439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4404960" y="25527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1890360" y="422928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4329000" y="30862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0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6097320" y="3809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5088960" y="255276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5028480" y="441972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26"/>
          <p:cNvSpPr/>
          <p:nvPr/>
        </p:nvSpPr>
        <p:spPr>
          <a:xfrm>
            <a:off x="4186080" y="3354480"/>
            <a:ext cx="15588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27"/>
          <p:cNvSpPr/>
          <p:nvPr/>
        </p:nvSpPr>
        <p:spPr>
          <a:xfrm>
            <a:off x="617220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2"/>
          <p:cNvPicPr/>
          <p:nvPr/>
        </p:nvPicPr>
        <p:blipFill>
          <a:blip r:embed="rId1"/>
          <a:stretch/>
        </p:blipFill>
        <p:spPr>
          <a:xfrm>
            <a:off x="380880" y="1905120"/>
            <a:ext cx="7696440" cy="4408200"/>
          </a:xfrm>
          <a:prstGeom prst="rect">
            <a:avLst/>
          </a:prstGeom>
          <a:ln w="0">
            <a:noFill/>
          </a:ln>
        </p:spPr>
      </p:pic>
      <p:sp>
        <p:nvSpPr>
          <p:cNvPr id="110" name="Line 7"/>
          <p:cNvSpPr/>
          <p:nvPr/>
        </p:nvSpPr>
        <p:spPr>
          <a:xfrm>
            <a:off x="685800" y="3352680"/>
            <a:ext cx="457200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1752480" y="3962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4114800" y="5486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904680" y="5143680"/>
            <a:ext cx="16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2"/>
          <p:cNvPicPr/>
          <p:nvPr/>
        </p:nvPicPr>
        <p:blipFill>
          <a:blip r:embed="rId1"/>
          <a:stretch/>
        </p:blipFill>
        <p:spPr>
          <a:xfrm>
            <a:off x="1066680" y="2209680"/>
            <a:ext cx="6934320" cy="3971880"/>
          </a:xfrm>
          <a:prstGeom prst="rect">
            <a:avLst/>
          </a:prstGeom>
          <a:ln w="0">
            <a:noFill/>
          </a:ln>
        </p:spPr>
      </p:pic>
      <p:sp>
        <p:nvSpPr>
          <p:cNvPr id="117" name="Line 7"/>
          <p:cNvSpPr/>
          <p:nvPr/>
        </p:nvSpPr>
        <p:spPr>
          <a:xfrm>
            <a:off x="3505320" y="2209680"/>
            <a:ext cx="480060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996840" y="4876920"/>
            <a:ext cx="16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4495680" y="27432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71629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4" descr="2"/>
          <p:cNvPicPr/>
          <p:nvPr/>
        </p:nvPicPr>
        <p:blipFill>
          <a:blip r:embed="rId1"/>
          <a:stretch/>
        </p:blipFill>
        <p:spPr>
          <a:xfrm>
            <a:off x="838080" y="2057400"/>
            <a:ext cx="6886800" cy="4167360"/>
          </a:xfrm>
          <a:prstGeom prst="rect">
            <a:avLst/>
          </a:prstGeom>
          <a:ln w="0">
            <a:noFill/>
          </a:ln>
        </p:spPr>
      </p:pic>
      <p:sp>
        <p:nvSpPr>
          <p:cNvPr id="124" name="Line 5"/>
          <p:cNvSpPr/>
          <p:nvPr/>
        </p:nvSpPr>
        <p:spPr>
          <a:xfrm>
            <a:off x="320040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1219320" y="2895480"/>
            <a:ext cx="4647960" cy="198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844200" y="2057400"/>
            <a:ext cx="165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intercept i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>
            <a:off x="320040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312408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4191120" y="35812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i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, put a 0 i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solve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58520" y="3505320"/>
            <a:ext cx="225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3*0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828080" y="40384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905120" y="4572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592000" y="4495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1829880" y="4495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2057040" y="5257800"/>
            <a:ext cx="10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806280" y="3809880"/>
            <a:ext cx="42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 is 3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int the line cros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axis is (3,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3:48:24Z</dcterms:created>
  <dc:creator>JRatliff</dc:creator>
  <dc:description/>
  <cp:keywords/>
  <dc:language>en-US</dc:language>
  <cp:lastModifiedBy>CABELL BOE</cp:lastModifiedBy>
  <dcterms:modified xsi:type="dcterms:W3CDTF">2009-08-11T17:34:02Z</dcterms:modified>
  <cp:revision>6</cp:revision>
  <dc:subject/>
  <dc:title>Graphing Lines Using Intercep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01033</vt:lpwstr>
  </property>
</Properties>
</file>